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DE4-CD72-46B2-A447-9CA73E33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A2D-39EE-4F19-8661-BE053ED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47E-794F-42AF-BFA8-B6498956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6D4-C013-49C3-B8DE-74B8E022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4D4A-2B48-4A7E-9EAE-FAEBDD7E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78C-445F-4D82-B6FA-23AF2815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FE5-8685-4455-95E0-0DEE1D8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2D5F-EBC3-45EC-8ACF-09EBDCCE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D34-1999-4857-A071-CCB4374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190-C57B-4F12-A484-4B2173D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C079-164D-4F61-8F94-A3509C7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AC3-789E-47AC-A740-5EF2861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D1E4-9C4B-4B2D-AAA7-CED3E22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ACEF-E3FF-4003-9D76-A99FD60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0A7B-9A36-408C-9328-AF5647B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FBB-D31C-42AA-92F0-76044EFD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2DF3-624B-4DBE-B93E-C6C9B81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2B0-A324-4F74-B380-53E3875D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76D-2564-4C22-8E99-A89D93B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072-B36B-4B2E-8181-354CA27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AF2-0162-4165-A686-1B1B68CD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F30-2000-4271-8C4A-17A37B2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76B-C284-4D51-A082-AFC75FE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247-0531-4ED4-995C-18632B0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B27-4794-4171-8A8A-0D558EA9E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3F9-A863-42B4-AA5B-1FD978375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CCELERA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es how rapidly the velocity of an object is chang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accel car.gif"/>
          <p:cNvPicPr/>
          <p:nvPr/>
        </p:nvPicPr>
        <p:blipFill>
          <a:blip r:embed="rId1"/>
          <a:stretch/>
        </p:blipFill>
        <p:spPr>
          <a:xfrm flipH="1">
            <a:off x="533160" y="1219320"/>
            <a:ext cx="83818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ULA FOR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36640" y="3389400"/>
            <a:ext cx="214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08040" y="281952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0360" y="33130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251240" y="28558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648320" y="274320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8148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IN VELO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181480" y="3276720"/>
            <a:ext cx="2895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18280" y="3618000"/>
            <a:ext cx="260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241960" y="346536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394240" y="338940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ELAP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8108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55960" y="4913280"/>
            <a:ext cx="3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516760" y="4495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413160" y="4379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335268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048120" y="4876920"/>
            <a:ext cx="1904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962520" y="4267080"/>
            <a:ext cx="5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3352680" y="50292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963600" y="4952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5259240" y="4495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791320" y="4800600"/>
            <a:ext cx="1904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6019920" y="419112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400800" y="4724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541188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6248520" y="525780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/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5411880" y="5867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6324480" y="58672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/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RAGE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r accelerates along a straight road from rest to 75 km/h in 5.0 s.  What is the magnitude of the average accel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02_10"/>
          <p:cNvPicPr/>
          <p:nvPr/>
        </p:nvPicPr>
        <p:blipFill>
          <a:blip r:embed="rId1"/>
          <a:stretch/>
        </p:blipFill>
        <p:spPr>
          <a:xfrm>
            <a:off x="457200" y="2438280"/>
            <a:ext cx="8305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r is moving to the right along a highway. Then the driver puts on the brakes.  If the initial velocity is 15.0 m/s, and it takes 5.0 s to slow down to 5.0 m/s, what is the car’s average accle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02_11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eleration not always negative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car is moving in the negative x-axis direction (left), and it is slowing down, the acceleration would be positive! Let’s do the mat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02_12"/>
          <p:cNvPicPr/>
          <p:nvPr/>
        </p:nvPicPr>
        <p:blipFill>
          <a:blip r:embed="rId1"/>
          <a:stretch/>
        </p:blipFill>
        <p:spPr>
          <a:xfrm>
            <a:off x="4876920" y="2133720"/>
            <a:ext cx="39272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LOCITY VS. ACCELE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tells us how quickly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tells us how quickly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mouse scared.gif"/>
          <p:cNvPicPr/>
          <p:nvPr/>
        </p:nvPicPr>
        <p:blipFill>
          <a:blip r:embed="rId1"/>
          <a:stretch/>
        </p:blipFill>
        <p:spPr>
          <a:xfrm>
            <a:off x="1447920" y="4800600"/>
            <a:ext cx="32860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TO PON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the velocity of an object is zero, does it mean that the acceleration is ze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the acceleration is zero, does it mean that the velocity is ze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07:38Z</dcterms:created>
  <dc:creator>jluckey</dc:creator>
  <dc:description/>
  <dc:language>en-US</dc:language>
  <cp:lastModifiedBy>jluckey</cp:lastModifiedBy>
  <dcterms:modified xsi:type="dcterms:W3CDTF">2011-08-07T21:15:04Z</dcterms:modified>
  <cp:revision>4</cp:revision>
  <dc:subject/>
  <dc:title>ACCELERATION</dc:title>
</cp:coreProperties>
</file>